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923-C727-4951-8902-522CDF97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7D6-6955-4CB9-A8EB-4C31A792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43A-2D0A-4D74-B93E-71E0587A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C52-61E8-410F-BBC5-3970CDA3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FA0-4F74-42A8-B50B-E1D0944D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066-14AE-465D-A3E9-17FC6C43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D41-559A-42F5-917D-EA0BF670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DC7-2650-43E4-9FA1-5894D743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567-82B1-4365-954A-64918872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819-445C-4698-949E-33E1D3F8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3F0-78F9-4761-B471-B65A4DBD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229-4B6A-4573-8980-59CF9772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046F-129D-4E57-B43A-5AA494797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304920"/>
            <a:ext cx="8450280" cy="1226880"/>
          </a:xfrm>
          <a:prstGeom prst="rect">
            <a:avLst/>
          </a:prstGeom>
          <a:solidFill>
            <a:srgbClr val="76a5a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In sp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7960" y="4165560"/>
            <a:ext cx="2519280" cy="302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112160" y="4165560"/>
            <a:ext cx="2444760" cy="296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454560" y="1828800"/>
            <a:ext cx="2947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                       </a:t>
            </a:r>
            <a:r>
              <a:rPr b="1" i="1" lang="en-US" sz="43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117440"/>
            <a:ext cx="9626400" cy="61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How the comet is call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What's the name of Neil's rock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Where Neil was bo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How did Maria discover the com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What do you think about Neil Armstrong? People says that he did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´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e the moon . Is it true? Tell us abou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Complete the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ia was the _____  American _______ to work as an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7.In which year was Valentina Tereshkova bor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8.What is the name of Neil Armstrong's rocke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9.What is the name of Valentina Tereshkova's rocke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WinuE</cp:lastModifiedBy>
  <dcterms:modified xsi:type="dcterms:W3CDTF">2011-01-19T18:09:32Z</dcterms:modified>
  <cp:revision>6</cp:revision>
  <dc:subject/>
  <dc:title>PowerPoint Presentation</dc:title>
</cp:coreProperties>
</file>